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chimes.wav" ContentType="audio/x-wav"/>
  <Override PartName="/ppt/media/image11.jpeg" ContentType="image/jpeg"/>
  <Override PartName="/ppt/media/image8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783-9352-4F87-B3E8-E22D737B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D69-9B80-46F5-B9F7-D93786FD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649-F8CE-4723-BEDC-973D9F0B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3F5-77AC-4235-89B2-64B3D27A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7AEF-8669-417D-BFB5-7C8E80F8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6DE4-8BBD-419E-9C5C-8FA8FF1A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5829-9498-4E4A-B6F9-C55A3510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788E-FB97-44F9-A3A9-08C329B2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56BC-A282-4A01-94EF-8D60D55D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DB3B-6E3C-404B-AE01-B791A407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9BF7-D826-4D8B-B5A8-29466301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67A-FD12-49B3-A70B-352AC99B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E7BD-278A-4360-A581-D6A78966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C0090-666B-4875-8615-D81BBAA8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2288-16EC-4754-9CBB-8AF95337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E73A-9AA4-4B67-AB6C-F502D504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452E-2458-40C4-934F-E2947AB0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C466-865E-450D-92D5-927A3D9B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4B15C-E8C8-4139-934F-23559315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2D16-7C47-40BE-9F03-EC36EC80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440EE-ED36-42AD-91DD-8B2C4FDF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95F2C-BF99-405B-9B79-3CDBF566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4BF-0564-47D3-90A0-432E8E9C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52EE4-5A69-4CFE-9A4D-24C9D52B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EA0B-0A01-4638-9CC8-E90BA787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F86C5-420C-4998-B221-4634B856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3D1D-CADF-4CC5-8A99-6871E871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03664-3376-4ADC-B50F-CCDFD657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60242-8A9F-48A4-9EDC-A2249664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F126B-8BC6-4DA7-A2E3-46EC67B0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97D53-5737-4E0C-9C1B-D20176CF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DE2CD-2701-4BF0-BA4C-47058277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6ED04-A764-4F74-939F-598F5C7E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E22-B247-4D6C-A8B1-477ABB40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ACB3E-C90A-4DCF-BA18-BF749D26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9B71B-084B-464A-8E0F-1DFB0180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47F0F-57AA-4F86-B7C8-C57D9C6F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04483-B11B-4D14-9959-776971A6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D9D56-0BCE-45FC-A9FF-32AA093A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79DD1-6643-4B19-B046-1A7E1C92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68C75-F718-444F-877F-2CF1F20F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059FF-CC11-4326-9F95-EF2072EE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5D682-560B-4A13-8F42-5ECF01E8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9ED-A42E-4FF6-AE2A-0549C60E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892-20E4-47A3-B7B3-A69556F0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7D8-D17F-4C69-BB0B-FFF6D7F9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17F-CBC8-444D-A04C-95DA5D95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6C83-CCEB-4563-A642-0CCDF5AF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8CEF-E8D8-4461-9F0C-1A7E6C780B03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8770-5271-42CB-9F13-C872D6A93B81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22BE-0D4C-4700-8F23-090A85E59C1F}" type="slidenum">
              <a:rPr b="0" lang="en-A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C8B2-1E50-4B0E-947C-7A4B22FCF461}" type="slidenum">
              <a:rPr b="0" lang="en-A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420920" y="1017720"/>
            <a:ext cx="5838840" cy="40845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"/>
          <p:cNvSpPr/>
          <p:nvPr/>
        </p:nvSpPr>
        <p:spPr>
          <a:xfrm>
            <a:off x="0" y="28584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icky’s Flight Glo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http://upload.wikimedia.org/wikipedia/commons/thumb/e/ee/Aeroforces.svg/180px-Aeroforces.svg.png"/>
          <p:cNvPicPr/>
          <p:nvPr/>
        </p:nvPicPr>
        <p:blipFill>
          <a:blip r:embed="rId2"/>
          <a:stretch/>
        </p:blipFill>
        <p:spPr>
          <a:xfrm>
            <a:off x="285840" y="4000680"/>
            <a:ext cx="4354560" cy="24318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Flaps</a:t>
            </a:r>
            <a:br>
              <a:rPr sz="4500"/>
            </a:br>
            <a:r>
              <a:rPr b="0" lang="en-AU" sz="4500" spc="-1" strike="noStrike">
                <a:solidFill>
                  <a:srgbClr val="04617b"/>
                </a:solidFill>
                <a:latin typeface="Calibri"/>
              </a:rPr>
              <a:t>Flaps are something flat and thin that is joined to something else on one side only hangs loose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4143240"/>
            <a:ext cx="822960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Back to Glossar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3" descr="C:\Program Files\Microsoft Office\Media\CntCD1\ClipArt5\j0285542.wmf"/>
          <p:cNvPicPr/>
          <p:nvPr/>
        </p:nvPicPr>
        <p:blipFill>
          <a:blip r:embed="rId1"/>
          <a:stretch/>
        </p:blipFill>
        <p:spPr>
          <a:xfrm>
            <a:off x="1785960" y="3643200"/>
            <a:ext cx="6289560" cy="17528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Thru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5214600"/>
            <a:ext cx="371484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Back to Glossar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9" descr="C:\Program Files\Microsoft Office\Media\CntCD1\Photo1\j0181476.jpg"/>
          <p:cNvPicPr/>
          <p:nvPr/>
        </p:nvPicPr>
        <p:blipFill>
          <a:blip r:embed="rId1"/>
          <a:stretch/>
        </p:blipFill>
        <p:spPr>
          <a:xfrm>
            <a:off x="4429080" y="3714840"/>
            <a:ext cx="4372200" cy="28702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9"/>
          <p:cNvSpPr/>
          <p:nvPr/>
        </p:nvSpPr>
        <p:spPr>
          <a:xfrm>
            <a:off x="571680" y="2000160"/>
            <a:ext cx="7786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rust is where a plane gets pushed  forward to make thru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Rad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C:\Program Files\Microsoft Office\Media\CntCD1\Photo1\j0289249.jpg"/>
          <p:cNvPicPr/>
          <p:nvPr/>
        </p:nvPicPr>
        <p:blipFill>
          <a:blip r:embed="rId1"/>
          <a:stretch/>
        </p:blipFill>
        <p:spPr>
          <a:xfrm>
            <a:off x="4643280" y="3929040"/>
            <a:ext cx="3929400" cy="2606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Radar is a system that Detects where other objects a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ack to Gloss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Autopilo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n  Autopilot is a system that controls the whole plan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Without the pilot controlling the Pl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ack to Gloss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6" descr="http://upload.wikimedia.org/wikipedia/commons/thumb/f/fd/Qantas_a380_vh-oqa_takeoff_heathrow_arp.jpg/300px-Qantas_a380_vh-oqa_takeoff_heathrow_arp.jpg"/>
          <p:cNvPicPr/>
          <p:nvPr/>
        </p:nvPicPr>
        <p:blipFill>
          <a:blip r:embed="rId1"/>
          <a:stretch/>
        </p:blipFill>
        <p:spPr>
          <a:xfrm>
            <a:off x="4929120" y="3643200"/>
            <a:ext cx="3810240" cy="26035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Descen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s a plane descends it is going to land on the grou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Back to Gloss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5" descr="C:\Program Files\Microsoft Office\Media\CntCD1\Photo1\j0202213.jpg"/>
          <p:cNvPicPr/>
          <p:nvPr/>
        </p:nvPicPr>
        <p:blipFill>
          <a:blip r:embed="rId1"/>
          <a:stretch/>
        </p:blipFill>
        <p:spPr>
          <a:xfrm>
            <a:off x="3929040" y="2857680"/>
            <a:ext cx="4729320" cy="31525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23:48:35Z</dcterms:created>
  <dc:creator>Education</dc:creator>
  <dc:description/>
  <dc:language>en-US</dc:language>
  <cp:lastModifiedBy>Education</cp:lastModifiedBy>
  <dcterms:modified xsi:type="dcterms:W3CDTF">2009-07-31T02:34:14Z</dcterms:modified>
  <cp:revision>17</cp:revision>
  <dc:subject/>
  <dc:title>Autopilot Descend Radar Thrust Flaps</dc:title>
</cp:coreProperties>
</file>